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958-09DC-43D5-897D-54115247D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AD48-59D8-4892-A9FF-8517ED91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539E-1E12-46E1-B93B-DF4887D0F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707F-F2CC-4BA3-B7E0-352FC876F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C051-809F-413B-ABB2-9890FA5D8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3CD1-A2D5-408A-965E-3EAD2EAB3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EC0B-616C-4FFD-84B3-DDB24662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716F-AE56-4BFF-8A10-9CB74A778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74E4-A639-48F1-8F5F-C1C6FAB70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169F-738E-4DC3-ABAD-9AC0054D4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A690-94A1-4FA0-BF21-B817E3A0E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4BF6-7678-4BEC-87B6-2EF017451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7464-BCF5-40D9-B083-058558FB7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1E66-96C7-4422-A9E3-CD1BC4314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B7FC-69D6-4500-8D4A-52DA2959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B066-B438-4CA8-B54D-6CE9FBF77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5F29-7D33-4E74-A7DA-13B9C4818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678A-CDC1-45B1-BCCF-219F5C0EA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3491-4D1E-4DD2-BA46-E1FC49AC2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CC9D-E9B1-4FC0-9CFB-8162D0B08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B1F5-1C3A-4E67-94AC-F5304EA9B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C71B-5FF0-4A80-BBCF-C44C65D1C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3C84-E47D-49E3-A3D6-BEC9E89E8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15E-3E80-4334-BD67-2AA242DCD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CE27-B4FD-4198-98C4-1217297A3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95B7-231B-4BAF-BD1F-62EE66C0E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D1B1-3240-40DD-B84D-ADB3BF8ED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1BD-8C9D-4AFA-8C7C-094449015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E95-9B66-4B7B-95CA-90F61185B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F1D-D9CA-43EB-9F35-4A6E1789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CE2-8C9F-4096-B08C-E4E201FF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480-758F-459F-B0D6-ACF77FAA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8E1-DDB2-4A57-AF7B-24657850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512A-CBBF-49D4-AAF8-0CC951A6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CD0D-9057-4250-8B3E-2CBA64AB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A44A-FC00-4BB9-ABCD-4C4C77E4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E05E-3485-4835-9F97-3D308252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4F92-B3BF-4698-B8D2-9482E25E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C44D-DB61-4787-9799-F2AAF64C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CA9B-8FE2-40E9-BFA2-63BA1DF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A95-E3B0-4382-B8BE-1BDC442F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8D24-EDF2-4C55-AB88-9B6CED9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1474-1CC5-4917-B71B-78FD491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DAC7-9ED5-43D1-9AA4-A35F2036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61BB-A66B-4D10-B85E-DEC6919C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4921-E362-4025-8600-9A32A8DD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B5D-6887-4B64-87E8-8D68207E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54F-9CED-4C4D-9405-17B07C0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5C7-FC4A-43C6-822E-6859C4C7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EB6-DA43-4E51-93ED-B63454C5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3FE-F160-4C10-AC0A-0D74490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3E8-FB1C-40B7-8DE2-520D474D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E4A-DFB8-4427-9F3A-B6D1B7C5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6F9A-D8B0-4435-B4F5-0336F894E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3FCF-64BB-458E-B372-FB57CA4B9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 Strategic Plann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per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400800"/>
            <a:ext cx="86104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ing, 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dition.  Copyright ©2008 by South-Western, a division of Thomson Learning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tement of 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form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how a retailer desires to be compared to its 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tement of 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Perform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the profit and economic performance a retailer des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rket Performance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formance objectives establish the amount of dominance the retailer has in the market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rket Performance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h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etailer’s total sales divided by total market s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nanci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ability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that deal directly with monetary return a retailer desires from it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Profit 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Turn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Le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n Net 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Profit Marg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atio of net profit (after taxes) to total sales and shows how much profit a retailer makes on each dollar of sales after all expenses and taxes have been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Turno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otal sales divided by total assets and shows how many dollars of sales a retailer can generate on an annual basis with each dollar invested in as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c Profi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6477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562040"/>
            <a:ext cx="7315200" cy="4533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n Assets (RO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et profit (after taxes) divided by total as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strategic planning is so important and be able to describe the components of strategic planning: statement of mission; goals and objectives; an analysis of strengths, weaknesses, opportunities, and threats; and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ext’s retail strategic planning and operation management model, which explains the two tasks that a retailer must perform and how they lead to high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Lever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otal assets divided by net worth or owners’ equity and shows how aggressive the retailer is in its use of d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n Net Worth (RON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et profit (after taxes) divided by owners’ equ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argin Percen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profitability derived by dividing gross margin by net sa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ity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sales objective that the retailer desires for each unit of resource input: floor space, labor, and inventory inves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Produ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et sales divided by the total square feet of retail floor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Manag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derstanding, anticipating, and reacting to changing customer needs in order to maximize the revenue from a fixed capacity of available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 Produ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et sales divided by the number of full-time-equivalent employ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dise Produ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et sales divided by the average dollar investment in inventory. (Sales-to-Stock Rat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enue per available seat mile calculation used by air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et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the retailers’ desire to help society fulfill some of it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onents of Strategic Plann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et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m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of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son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the retailers’ desire to help individuals employed in retailing fulfill some of their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son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g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and 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nd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ail Objec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415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56200" y="3733920"/>
            <a:ext cx="47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65600" y="42670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 Black"/>
              </a:rPr>
              <a:t>Personal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27640" y="42670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 Black"/>
              </a:rPr>
              <a:t>Societal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286000"/>
            <a:ext cx="13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 Black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arefully designed plan for achieving the retailer’s goals and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inimal Retail 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hoppers into your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se shoppers into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having them purchase merchand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at the lowest operat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hat is consistent with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that your customers expect.</a:t>
            </a: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re Retail 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ifferentia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ll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-purchase satisf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being out of st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OT Analy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identification and analysis of a retailer’s strengths, weaknesses, opportunities, and threats a firm 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WOT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r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group or groups of customers that the retailer is seeking to s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onents of Strategic Plann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nticipation and organization of what needs to be done to reach on ob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geographic space or cyberspace where the retailer conduct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atures Offered by Best Buy to Meet the Needs of Its Various Customer Typ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53560" cy="4038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m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ombination of merchandise, assortment, price, promotion, customer service, and store layout that best serves the segments targeted by the retai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Mi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43000" y="1419120"/>
            <a:ext cx="6781680" cy="4753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Pro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ear statement of the tangible and/or intangible results a customer receives from shopping at and using the retailer’s products or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Profit Ret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lan of action detailing how the retailer will respond to the environment in an effort to establish a long-term course of action to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47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anag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s with activities directed at maximizing the efficiency of the retailer’s use of resources. It is frequently referred to as day-to-day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Profit Retai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 high profit retailer, the retailer needs good strategic planning coupled with strong operations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onents of Strategic Plann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dapting the resources of the firm to the opportunities and threats of an ever-changing retai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rategic Profit Model for Some of the Country’s Leading Retail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tional Slid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ments of a Mission State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523880"/>
            <a:ext cx="7543800" cy="4114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1523880"/>
            <a:ext cx="0" cy="4114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15000" y="1523880"/>
            <a:ext cx="0" cy="4114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1600200"/>
            <a:ext cx="220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retailer uses or intends to use it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2514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retailer expects to relate to the ever-chang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1600200"/>
            <a:ext cx="221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s intended to offer to serve the needs and wants of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1447920"/>
            <a:ext cx="6400800" cy="4647960"/>
          </a:xfrm>
          <a:prstGeom prst="flowChar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22520" y="2084400"/>
            <a:ext cx="250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8840" y="2084400"/>
            <a:ext cx="250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59120" y="4065480"/>
            <a:ext cx="20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4065480"/>
            <a:ext cx="20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Planning and Manage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447920"/>
            <a:ext cx="3886200" cy="2133360"/>
          </a:xfrm>
          <a:prstGeom prst="diamond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286000"/>
            <a:ext cx="3886200" cy="2286000"/>
          </a:xfrm>
          <a:prstGeom prst="diamond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733920"/>
            <a:ext cx="3962520" cy="2286000"/>
          </a:xfrm>
          <a:prstGeom prst="diamond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198108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28195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434340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profit Ret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onents of Strategic Plann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basic description of the fundamental nature, rationale, and direction of the fi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ments of a Mission State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retailer uses or intends to use its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expects to relate to the ever-changing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s of values it intends to provide in order to serve the needs and w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onsu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tement of 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performance results intended to be brought about through the execution of a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tement of 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formanc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Performanc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2:02:27Z</dcterms:created>
  <dc:creator>Steven Inman</dc:creator>
  <dc:description/>
  <dc:language>en-US</dc:language>
  <cp:lastModifiedBy>Steven Inman</cp:lastModifiedBy>
  <dcterms:modified xsi:type="dcterms:W3CDTF">2007-01-15T03:28:17Z</dcterms:modified>
  <cp:revision>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